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58D-680E-487B-B655-64256756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55E2-A0F1-4C76-8297-5B5351F2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B5C-596F-4CC0-8E02-EA419FB1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44F-5193-4530-A7AC-432E8F54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9AC-377B-4F82-919C-EA074B36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D68-CEE0-4FBE-A7E0-208B6723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2B6-139F-4BFB-8F41-17E0C7DE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3C6-D067-46B6-8743-4D53D523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A87-BE96-4E66-A71B-5513A31B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366-9842-47F1-9223-F495B8E5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7AE-6E40-40A2-A28B-0125CB6F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1E1-E4B0-4FF0-819A-94CC83AF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29F4-7778-4E8F-8076-E2F600123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tue of Liberty’s N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vestigation into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18190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8088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were given the following information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22096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ue of Liberty’s nose is actually four feet six inches in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graphs of the stat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rs and tap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94520" y="3505320"/>
            <a:ext cx="259380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553080" cy="5765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s were challenge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how long the Statue of Liberty’s arm is from shoulder to w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how many noses it would take to make up the length of the statue’s 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12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885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5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84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819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5:56:04Z</dcterms:created>
  <dc:creator>Teacher</dc:creator>
  <dc:description/>
  <dc:language>en-US</dc:language>
  <cp:lastModifiedBy>Teacher</cp:lastModifiedBy>
  <dcterms:modified xsi:type="dcterms:W3CDTF">2007-04-27T16:14:47Z</dcterms:modified>
  <cp:revision>4</cp:revision>
  <dc:subject/>
  <dc:title>The Statue of Liberty’s Nose</dc:title>
</cp:coreProperties>
</file>